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83E-D735-4E7E-AD05-EC2CCEC1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41B-522D-4DF5-90E2-410BFB7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CA58E0-878C-4543-BF89-5910ABE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E9DA2-7715-4B9A-957D-8AC8BA33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CC9EB-FE0E-4CFE-B58B-A50CE69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F990F-5CD8-4B9F-9E8D-84A3BEC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E09E5-09AA-404A-A658-57E42A4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2C0A64-D1E2-4BAA-9FC3-C39F722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0B152C-C9C0-4503-85C7-E55C5FE3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981FA-23E6-4AF0-AB5F-F9662F81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70A381-C433-4F31-A536-5F72DCEF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6DADD-1603-4542-9A28-D458717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B6F-A380-4E6A-BAA9-6ED1A1FA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1F2878-0232-437A-BCAD-E9B63D5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A4753-A0A1-448C-98EC-EC99B93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E4BC5D-82AD-48EA-A4B1-6CA2F3B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11B38-93A3-4610-AC1F-6DD08C77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02871-1A87-4F23-AB4B-4F1769E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E4529E-2A63-4B0D-856A-144CD3CD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E0394-990B-4AE2-BAD9-DE4D33B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3CA25-908D-4DD3-9D8D-EC36D42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1907C0-AA72-43F4-8D7A-C28B5470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2153C-D6B4-4771-A85C-4129C67A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706-5C7A-4EE9-B17D-60AD1E31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3AC91-A250-4120-8515-D763772E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6A238-B3FD-47A3-8429-06CE6CF4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43DD-C020-4CE4-AAC7-EA66CEDB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0E9E7-28C5-4DD8-BBA4-AE0ECB86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B8F0-1B4C-44AA-84D1-DF0C391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B73DB-E144-4DC0-A7D2-4F46BBBB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8A8A1-8AA8-4857-A372-7C44410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5C295-4A1B-4FF5-BC6D-46C65D02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FB2D-29E4-4F80-9A3C-5214242C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AE882-3E47-46C4-9AC2-CC0A192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28FA-8C40-4233-A059-66FD5DE7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BF9C-0406-4AD5-B886-0D77244D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C26D4-7916-40F3-BCDE-1AA80B52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241E2-9DB7-48EE-8E4B-9AE4DBE1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DB737-C252-41A5-9F18-50B2F42E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9CAF9-3148-4188-B9DB-3A3AB9B1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05895-DEE9-4324-8EC1-70CB456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F0392-D709-4D90-980B-94614D8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0C067-9B20-4E30-BA47-516BB5D9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D1D0B-72CC-481A-B234-0484C09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07B0F-B985-4419-9615-BCEF12D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EF31-B8F4-4EBA-9EC6-73807A10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AAE8E-377A-4CF2-9FE9-566FC921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9059-6EC7-4C5B-B4FC-03F1D74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FB049-ED38-47D5-8EBA-B79D6FB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21BE1-6DEF-4DA9-8DB2-51E32459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94F7A-B515-4D06-8623-094E33F3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DCD9-A6F1-451D-A87E-83B019B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33A8-735B-49C3-A043-7D6220F1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DC3-14A9-4095-AE0A-8E0717FE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D17-8123-43EA-9190-EF241899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9902-061D-410E-890B-7E4E7D8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1A0-96F7-41D5-B6CF-95AFFDE3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6A6A-5C11-4C82-8E8B-54B2475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EFD4-7AED-410F-A08A-0E33115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1DD8-82DF-4207-A1C7-501E9F4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4005-E024-4846-8E73-CE9F2B95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6214-F51E-4726-AF42-B2E8809F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EE19D-0EFF-49A9-ABE6-E0C233F2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7CD29-8140-498F-9883-E1559F2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CAEAE-0213-4572-B5A8-10229B8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B6183-5BB1-4B20-847D-29645291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5AB60-A0F9-47C6-ADAE-67122B5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6FA-85BF-44A0-8827-F606B62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468D3-CB50-4F63-B39E-BD67871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2B23C-7489-445B-AC66-CD83CAB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438C1-E10C-43A7-B86A-D21D9C4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40C7C-3D93-427C-905E-7CFBB7B9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1E38F-FA98-4B7D-81A1-B65AA9BE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D03BD-F849-43F0-ABD9-D1F62D9D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C181D-FBF8-4987-A907-369C96D5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D8B5-294A-4883-969C-AC7AA9EA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E5B7-BF3C-4D7E-9B97-80C9693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80254-ECD6-48C8-BE5C-0892F5C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B78-1C32-4002-B4F9-84CCE4F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3DD7-A752-4908-86F9-6E74859B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DBB2-72B8-44B9-B7A0-697616A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A857-E8FA-4199-B073-9E5CA658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E21C-6A9B-41AF-9C40-770DAB5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AD62-26A2-4A62-9756-ED304A7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25B4-D9E5-4E0D-9639-C0AEF8F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770C9-D0CF-4D24-BE0D-F5C50881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0535-B1C7-4E1A-A13A-DA9E9BD5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B105-1530-4B44-A9C0-8081B90C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57BCA-862C-4238-B88B-32835F9D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4BA-18CD-4845-B7F6-B488BF4D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DC10-062C-494E-93A9-2DECA37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A1E4-FA5D-4EB3-8C2F-80477859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7C4B-711F-43BF-8BF7-11798785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A9BF-4289-4CAB-8899-1AF329AD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BBDF-76C5-40EE-AC38-4F9AF48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E3B4-DBA5-4587-9473-BF84457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E1E0F-E21B-4217-B627-6E989D1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7C0E8-0222-4B3C-9DB8-32B31209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0A365-E378-4C74-935B-8D4279F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B4ED-348F-45A3-92B8-56A6B852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228-50D5-4980-AC86-E83F1E7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8025-0A94-4DE5-9F26-6AE115B7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0607-4703-49D8-8190-BD5D5030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3AC4-8CE7-4073-B881-795147DE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8BFD-2922-48C8-AE2B-258E810F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A1C9-CF4F-404E-8798-41EA2EE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E1E0-A012-4C00-8318-476548A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7E7E-06FA-4308-AC53-EA3B7977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EC73-70A5-4371-B87B-691F6C7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2FA9-C2B3-4D5F-9A19-BFD7834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E9AF-34BB-4A5A-8E4C-D0DA926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087-370E-454E-BA02-8D682D50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64DC-E8AF-4FF7-8E0E-05474F0B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A038-F0F2-47D7-A387-2FD75526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F7BF-FC21-449C-9503-50684FA8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6EA20-2B59-4D44-921F-4F6B2DC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3397E-E9BD-4FF9-84B9-7D3789B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45AC9-33D1-479A-A4A8-5AE0814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AB9AD-8AF9-4E7F-950A-33FDBA29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64533-784C-4E59-A5A6-1D9F0237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7A602-AF1B-4CF8-B42D-2D927D7B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98A70-2CB8-422F-8AB8-D5D108D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DEE-453F-4CF4-9C8A-8B1BAE9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561DE-8704-44BF-B3B6-6033904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6F55F-C8F6-4EFC-978C-74C01D3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520F0-21C2-46F2-8A5E-8385B968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DF311-6F06-49D3-A4A8-BEBB03B5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91BAE-2127-466B-B253-FC287DC4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63E4-A959-41E6-A4E2-C197F4AB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5517-0810-4614-9B48-823AE2A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304D0-8975-44D5-BF65-A4C1589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C838-8B54-4E99-B8A3-D143D1B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95682-CF2D-48C8-91A9-5FFA205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06B-E799-4D3F-90DD-310B049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C1D7-F8EB-4CD1-BFEA-0D68C17C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64D54-000A-4408-A156-3411974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A915-71C7-4AD8-A01E-A8070A2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DA9C-3EF5-40F9-ABA4-6B9AA76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43CCB-2F31-4292-92D1-43346CB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3BF64-E7B6-4554-B3D8-B3B07076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636FA-361E-41CD-BB55-62D95F4D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12EAA-B42B-4E26-A9E7-DBD40029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1AF09-BE83-4F98-9D2F-F6C05D2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92D2F-47F7-4C99-AF6F-77083C6E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432D-A330-4979-8EB3-8EE1C9252C6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2CC-E57F-4273-8F32-C5EEC24003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208-EB74-4CFA-B0A2-07400E48CECB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A2E5-0387-4F5E-9F97-02EACDC288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F89-348E-4885-A38E-95FCD297B3FD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9322-DC6E-448B-91FD-717D3C2BF7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7A5-6B98-482E-9B76-A2DDF6EC128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D545-66F7-49E2-B1C4-A1D28C1159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192-7013-4F6B-82F8-49910DF0F0EE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801A-D0DA-46A0-9B18-E28FBC6C76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F3CF-820C-414C-B9CC-72200C54454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ED5-C3AC-4ABC-BB7B-6C465140F8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5A0-EC25-4D13-8489-0FBFFA1BC507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FDD-E996-4590-8E54-C0E2484EAC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1A1B-365E-4C50-AB6C-E2DF73E31899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0E43-D5B8-4BF9-B1BD-60A74832FD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9BB-E0F4-4EB9-ADD5-2F2E079D20C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DAD7-D997-48E3-BC00-BD30733137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24B9-3243-4D8E-B04C-C25795E7EFBB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2DFA-4859-43A4-A484-BEFCE3D72C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AE6-52C2-4DF9-8A0E-1D8998F7B432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ABA-A4A4-4BB4-AA66-C937536535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00A-D85A-4589-BB72-6BABE3043DD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894-E1E4-4D0E-9B22-6A8035F8D3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142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Century Schoolbook"/>
              </a:rPr>
              <a:t>UNCOLLECTABLE ACCOUNT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STING AN ADJUSTING ENTRY FOR UNCOLLECTIBLE ACCOUNTS EXPENS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51" name="Picture 4" descr="D:\C21 PowerPoint\Multi_Journal\art for blue\Ch20\Ch20-01b.jpg"/>
          <p:cNvPicPr/>
          <p:nvPr/>
        </p:nvPicPr>
        <p:blipFill>
          <a:blip r:embed="rId1"/>
          <a:srcRect l="12380" t="0" r="0" b="37650"/>
          <a:stretch/>
        </p:blipFill>
        <p:spPr>
          <a:xfrm>
            <a:off x="457200" y="1143000"/>
            <a:ext cx="5932440" cy="510552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13"/>
          <p:cNvGrpSpPr/>
          <p:nvPr/>
        </p:nvGrpSpPr>
        <p:grpSpPr>
          <a:xfrm>
            <a:off x="3710160" y="2209680"/>
            <a:ext cx="457200" cy="3810240"/>
            <a:chOff x="3710160" y="2209680"/>
            <a:chExt cx="457200" cy="3810240"/>
          </a:xfrm>
        </p:grpSpPr>
        <p:sp>
          <p:nvSpPr>
            <p:cNvPr id="653" name="Line 5"/>
            <p:cNvSpPr/>
            <p:nvPr/>
          </p:nvSpPr>
          <p:spPr>
            <a:xfrm>
              <a:off x="3962520" y="2209680"/>
              <a:ext cx="0" cy="3810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9"/>
            <p:cNvSpPr/>
            <p:nvPr/>
          </p:nvSpPr>
          <p:spPr>
            <a:xfrm>
              <a:off x="3710160" y="23623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4260960" y="2362320"/>
            <a:ext cx="457200" cy="2590560"/>
            <a:chOff x="4260960" y="2362320"/>
            <a:chExt cx="457200" cy="2590560"/>
          </a:xfrm>
        </p:grpSpPr>
        <p:sp>
          <p:nvSpPr>
            <p:cNvPr id="656" name="Line 8"/>
            <p:cNvSpPr/>
            <p:nvPr/>
          </p:nvSpPr>
          <p:spPr>
            <a:xfrm>
              <a:off x="4495680" y="2362320"/>
              <a:ext cx="0" cy="2590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426096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Text Box 11"/>
          <p:cNvSpPr/>
          <p:nvPr/>
        </p:nvSpPr>
        <p:spPr>
          <a:xfrm>
            <a:off x="5029200" y="1143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5029200" y="15080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1, page 5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Accounting  for Uncollectable </a:t>
            </a:r>
            <a:br>
              <a:rPr sz="3800"/>
            </a:b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Accounts Receivable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TextBox 2"/>
          <p:cNvSpPr/>
          <p:nvPr/>
        </p:nvSpPr>
        <p:spPr>
          <a:xfrm>
            <a:off x="285840" y="1828800"/>
            <a:ext cx="78105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usinesses sell to customers on account to encourage s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usinesses conduct credit investigations of customer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ome accounts receivable will never be collected – </a:t>
            </a:r>
            <a:r>
              <a:rPr b="1" lang="en-US" sz="3100" spc="-1" strike="noStrike">
                <a:solidFill>
                  <a:srgbClr val="ff6600"/>
                </a:solidFill>
                <a:latin typeface="Times New Roman"/>
              </a:rPr>
              <a:t>Uncollectable Accou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Uncollectable Accounts cont…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534960" y="1447920"/>
            <a:ext cx="7311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amount that is uncollectable is recorded as an </a:t>
            </a:r>
            <a:r>
              <a:rPr b="0" lang="en-US" sz="2900" spc="-1" strike="noStrike" u="sng">
                <a:solidFill>
                  <a:srgbClr val="ff6600"/>
                </a:solidFill>
                <a:uFillTx/>
                <a:latin typeface="Times New Roman"/>
              </a:rPr>
              <a:t>expense</a:t>
            </a:r>
            <a:r>
              <a:rPr b="0" lang="en-US" sz="2900" spc="-1" strike="noStrike">
                <a:solidFill>
                  <a:srgbClr val="ff6600"/>
                </a:solidFill>
                <a:latin typeface="Times New Roman"/>
              </a:rPr>
              <a:t> – Uncollectable Accounts Expen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type of transaction is considered a regular expense doing business and does not affect the business’ revenu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sale is not cancell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Estimating and Recording Uncollectable Accounts Expense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3" name="TextBox 3"/>
          <p:cNvSpPr/>
          <p:nvPr/>
        </p:nvSpPr>
        <p:spPr>
          <a:xfrm>
            <a:off x="304920" y="17524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ale occurs on a account the business is taking a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financial reporting requires that expenses be recorded in the fiscal period in which the expenses contribute to earning reven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businesses do not know which accounts will become uncollectable, a business can record an estimated amount of Uncollectable Accounts Exp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7848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entury Schoolbook"/>
              </a:rPr>
              <a:t>Estimating and Recording Uncollectable Accounts Expense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304920" y="1752480"/>
            <a:ext cx="77724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6600"/>
                </a:solidFill>
                <a:uFillTx/>
                <a:latin typeface="Times New Roman"/>
              </a:rPr>
              <a:t>Two Benefits for a Busin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.) Reports a balance sheet amount for Accounts Receivable that reflects the amount the business expects to collect in the futur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.) Recognizes the expense of uncollectable accounts in the same accounting period in which the related revenue is record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Century Schoolbook"/>
              </a:rPr>
              <a:t>ALLOWANCE METHOD OF RECORDING LOSSES FROM UNCOLLECTIBLE ACCOUN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TextBox 3"/>
          <p:cNvSpPr/>
          <p:nvPr/>
        </p:nvSpPr>
        <p:spPr>
          <a:xfrm>
            <a:off x="457200" y="144792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Book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difference an asset’s account balance and its related contra account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Book Value of Account’s Receiv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difference between the balance of Account’s Receivable and its contra account, Allowance for Uncollectable Ac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value reported on the balance sheet represents the total amount that the business expects to collect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Century Schoolbook"/>
              </a:rPr>
              <a:t>ALLOWANCE METHOD OF RECORDING LOSSES FROM UNCOLLECTIBLE ACCOUN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599" name="Group 40"/>
          <p:cNvGrpSpPr/>
          <p:nvPr/>
        </p:nvGrpSpPr>
        <p:grpSpPr>
          <a:xfrm>
            <a:off x="1295280" y="1280880"/>
            <a:ext cx="5794200" cy="957600"/>
            <a:chOff x="1295280" y="1280880"/>
            <a:chExt cx="5794200" cy="957600"/>
          </a:xfrm>
        </p:grpSpPr>
        <p:sp>
          <p:nvSpPr>
            <p:cNvPr id="600" name="Text Box 7"/>
            <p:cNvSpPr/>
            <p:nvPr/>
          </p:nvSpPr>
          <p:spPr>
            <a:xfrm>
              <a:off x="2061720" y="1280880"/>
              <a:ext cx="41126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collectible Accounts Expe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Group 8"/>
            <p:cNvGrpSpPr/>
            <p:nvPr/>
          </p:nvGrpSpPr>
          <p:grpSpPr>
            <a:xfrm>
              <a:off x="1295280" y="1781280"/>
              <a:ext cx="5794200" cy="457200"/>
              <a:chOff x="1295280" y="1781280"/>
              <a:chExt cx="5794200" cy="457200"/>
            </a:xfrm>
          </p:grpSpPr>
          <p:sp>
            <p:nvSpPr>
              <p:cNvPr id="602" name="Line 9"/>
              <p:cNvSpPr/>
              <p:nvPr/>
            </p:nvSpPr>
            <p:spPr>
              <a:xfrm>
                <a:off x="1295280" y="1781280"/>
                <a:ext cx="57942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10"/>
              <p:cNvSpPr/>
              <p:nvPr/>
            </p:nvSpPr>
            <p:spPr>
              <a:xfrm>
                <a:off x="4118040" y="1781280"/>
                <a:ext cx="0" cy="457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Group 15"/>
          <p:cNvGrpSpPr/>
          <p:nvPr/>
        </p:nvGrpSpPr>
        <p:grpSpPr>
          <a:xfrm>
            <a:off x="1295280" y="2943000"/>
            <a:ext cx="5793840" cy="957600"/>
            <a:chOff x="1295280" y="2943000"/>
            <a:chExt cx="5793840" cy="957600"/>
          </a:xfrm>
        </p:grpSpPr>
        <p:sp>
          <p:nvSpPr>
            <p:cNvPr id="605" name="Text Box 16"/>
            <p:cNvSpPr/>
            <p:nvPr/>
          </p:nvSpPr>
          <p:spPr>
            <a:xfrm>
              <a:off x="2739240" y="2943000"/>
              <a:ext cx="274248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s Receiv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17"/>
            <p:cNvGrpSpPr/>
            <p:nvPr/>
          </p:nvGrpSpPr>
          <p:grpSpPr>
            <a:xfrm>
              <a:off x="1295280" y="3443400"/>
              <a:ext cx="5793840" cy="457200"/>
              <a:chOff x="1295280" y="3443400"/>
              <a:chExt cx="5793840" cy="457200"/>
            </a:xfrm>
          </p:grpSpPr>
          <p:sp>
            <p:nvSpPr>
              <p:cNvPr id="607" name="Line 18"/>
              <p:cNvSpPr/>
              <p:nvPr/>
            </p:nvSpPr>
            <p:spPr>
              <a:xfrm>
                <a:off x="1295280" y="3443400"/>
                <a:ext cx="57938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19"/>
              <p:cNvSpPr/>
              <p:nvPr/>
            </p:nvSpPr>
            <p:spPr>
              <a:xfrm>
                <a:off x="4118040" y="3443400"/>
                <a:ext cx="0" cy="457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Group 24"/>
          <p:cNvGrpSpPr/>
          <p:nvPr/>
        </p:nvGrpSpPr>
        <p:grpSpPr>
          <a:xfrm>
            <a:off x="1295280" y="4605120"/>
            <a:ext cx="5793840" cy="957600"/>
            <a:chOff x="1295280" y="4605120"/>
            <a:chExt cx="5793840" cy="957600"/>
          </a:xfrm>
        </p:grpSpPr>
        <p:sp>
          <p:nvSpPr>
            <p:cNvPr id="610" name="Text Box 25"/>
            <p:cNvSpPr/>
            <p:nvPr/>
          </p:nvSpPr>
          <p:spPr>
            <a:xfrm>
              <a:off x="1741320" y="4605120"/>
              <a:ext cx="473436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wance for Uncollectible Accou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Group 26"/>
            <p:cNvGrpSpPr/>
            <p:nvPr/>
          </p:nvGrpSpPr>
          <p:grpSpPr>
            <a:xfrm>
              <a:off x="1295280" y="5105520"/>
              <a:ext cx="5793840" cy="457200"/>
              <a:chOff x="1295280" y="5105520"/>
              <a:chExt cx="5793840" cy="457200"/>
            </a:xfrm>
          </p:grpSpPr>
          <p:sp>
            <p:nvSpPr>
              <p:cNvPr id="612" name="Line 27"/>
              <p:cNvSpPr/>
              <p:nvPr/>
            </p:nvSpPr>
            <p:spPr>
              <a:xfrm>
                <a:off x="1295280" y="5105520"/>
                <a:ext cx="57938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28"/>
              <p:cNvSpPr/>
              <p:nvPr/>
            </p:nvSpPr>
            <p:spPr>
              <a:xfrm>
                <a:off x="4118040" y="5105520"/>
                <a:ext cx="0" cy="4572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Group 39"/>
          <p:cNvGrpSpPr/>
          <p:nvPr/>
        </p:nvGrpSpPr>
        <p:grpSpPr>
          <a:xfrm>
            <a:off x="1295280" y="1825560"/>
            <a:ext cx="5943600" cy="3723120"/>
            <a:chOff x="1295280" y="1825560"/>
            <a:chExt cx="5943600" cy="3723120"/>
          </a:xfrm>
        </p:grpSpPr>
        <p:sp>
          <p:nvSpPr>
            <p:cNvPr id="615" name="Text Box 12"/>
            <p:cNvSpPr/>
            <p:nvPr/>
          </p:nvSpPr>
          <p:spPr>
            <a:xfrm>
              <a:off x="1295280" y="1825560"/>
              <a:ext cx="59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00200"/>
                  <a:tab algn="ctr" pos="3881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1295280" y="3532320"/>
              <a:ext cx="59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00200"/>
                  <a:tab algn="ctr" pos="3881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30"/>
            <p:cNvSpPr/>
            <p:nvPr/>
          </p:nvSpPr>
          <p:spPr>
            <a:xfrm>
              <a:off x="1295280" y="5149800"/>
              <a:ext cx="59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600200"/>
                  <a:tab algn="ctr" pos="3881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AutoShape 32"/>
          <p:cNvSpPr/>
          <p:nvPr/>
        </p:nvSpPr>
        <p:spPr>
          <a:xfrm>
            <a:off x="2133720" y="2133720"/>
            <a:ext cx="1711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3"/>
          <p:cNvSpPr/>
          <p:nvPr/>
        </p:nvSpPr>
        <p:spPr>
          <a:xfrm flipV="1">
            <a:off x="2133720" y="5486400"/>
            <a:ext cx="1711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34"/>
          <p:cNvSpPr/>
          <p:nvPr/>
        </p:nvSpPr>
        <p:spPr>
          <a:xfrm>
            <a:off x="2133720" y="3886200"/>
            <a:ext cx="1711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5"/>
          <p:cNvSpPr/>
          <p:nvPr/>
        </p:nvSpPr>
        <p:spPr>
          <a:xfrm flipV="1">
            <a:off x="4425840" y="3886200"/>
            <a:ext cx="17114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6"/>
          <p:cNvSpPr/>
          <p:nvPr/>
        </p:nvSpPr>
        <p:spPr>
          <a:xfrm>
            <a:off x="4425840" y="5486400"/>
            <a:ext cx="17114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7"/>
          <p:cNvSpPr/>
          <p:nvPr/>
        </p:nvSpPr>
        <p:spPr>
          <a:xfrm flipV="1">
            <a:off x="4425840" y="2133720"/>
            <a:ext cx="17114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STIMATING UNCOLLECTIBLE ACCOUNTS EXPEN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625" name="Group 24"/>
          <p:cNvGrpSpPr/>
          <p:nvPr/>
        </p:nvGrpSpPr>
        <p:grpSpPr>
          <a:xfrm>
            <a:off x="441000" y="3809880"/>
            <a:ext cx="8509680" cy="2514600"/>
            <a:chOff x="441000" y="3809880"/>
            <a:chExt cx="8509680" cy="2514600"/>
          </a:xfrm>
        </p:grpSpPr>
        <p:sp>
          <p:nvSpPr>
            <p:cNvPr id="626" name="Rectangle 19"/>
            <p:cNvSpPr/>
            <p:nvPr/>
          </p:nvSpPr>
          <p:spPr>
            <a:xfrm>
              <a:off x="457200" y="3886200"/>
              <a:ext cx="8229600" cy="243828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Group 22"/>
            <p:cNvGrpSpPr/>
            <p:nvPr/>
          </p:nvGrpSpPr>
          <p:grpSpPr>
            <a:xfrm>
              <a:off x="441000" y="3809880"/>
              <a:ext cx="8509680" cy="1704960"/>
              <a:chOff x="441000" y="3809880"/>
              <a:chExt cx="8509680" cy="1704960"/>
            </a:xfrm>
          </p:grpSpPr>
          <p:grpSp>
            <p:nvGrpSpPr>
              <p:cNvPr id="628" name="Group 14"/>
              <p:cNvGrpSpPr/>
              <p:nvPr/>
            </p:nvGrpSpPr>
            <p:grpSpPr>
              <a:xfrm>
                <a:off x="457200" y="3809880"/>
                <a:ext cx="858600" cy="858600"/>
                <a:chOff x="457200" y="3809880"/>
                <a:chExt cx="858600" cy="858600"/>
              </a:xfrm>
            </p:grpSpPr>
            <p:sp>
              <p:nvSpPr>
                <p:cNvPr id="629" name="Text Box 15"/>
                <p:cNvSpPr/>
                <p:nvPr/>
              </p:nvSpPr>
              <p:spPr>
                <a:xfrm>
                  <a:off x="457200" y="38098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16"/>
                <p:cNvSpPr/>
                <p:nvPr/>
              </p:nvSpPr>
              <p:spPr>
                <a:xfrm>
                  <a:off x="914400" y="3809880"/>
                  <a:ext cx="401400" cy="39816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Text Box 17"/>
                <p:cNvSpPr/>
                <p:nvPr/>
              </p:nvSpPr>
              <p:spPr>
                <a:xfrm>
                  <a:off x="457200" y="426996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</a:t>
                  </a:r>
                  <a:r>
                    <a:rPr b="1" lang="en-US" sz="3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Text Box 18"/>
                <p:cNvSpPr/>
                <p:nvPr/>
              </p:nvSpPr>
              <p:spPr>
                <a:xfrm>
                  <a:off x="914400" y="4268520"/>
                  <a:ext cx="401400" cy="398520"/>
                </a:xfrm>
                <a:prstGeom prst="rect">
                  <a:avLst/>
                </a:prstGeom>
                <a:solidFill>
                  <a:srgbClr val="00cc66"/>
                </a:solidFill>
                <a:ln w="0">
                  <a:noFill/>
                </a:ln>
                <a:effectLst>
                  <a:outerShdw dist="17819" dir="13500000" blurRad="0" rotWithShape="0">
                    <a:srgbClr val="008000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 anchorCtr="1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Text Box 20"/>
              <p:cNvSpPr/>
              <p:nvPr/>
            </p:nvSpPr>
            <p:spPr>
              <a:xfrm>
                <a:off x="441000" y="4689360"/>
                <a:ext cx="850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861840"/>
                    <a:tab algn="ctr" pos="2282760"/>
                    <a:tab algn="ctr" pos="3665520"/>
                    <a:tab algn="ctr" pos="4906800"/>
                    <a:tab algn="ctr" pos="6865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tal Sale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timate Uncollecti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ctr" pos="861840"/>
                    <a:tab algn="ctr" pos="2282760"/>
                    <a:tab algn="ctr" pos="3665520"/>
                    <a:tab algn="ctr" pos="4906800"/>
                    <a:tab algn="ctr" pos="686592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n Accou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centa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counts Expens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Text Box 21"/>
          <p:cNvSpPr/>
          <p:nvPr/>
        </p:nvSpPr>
        <p:spPr>
          <a:xfrm>
            <a:off x="441360" y="563256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861840"/>
                <a:tab algn="ctr" pos="2282760"/>
                <a:tab algn="ctr" pos="3665520"/>
                <a:tab algn="ctr" pos="4906800"/>
                <a:tab algn="ctr" pos="6865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982,800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9,828.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7344360" y="67809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1, page 5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533520" y="21416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sinesses use a percentage of total sales on account to estimate this exp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ALYZING AND JOURNALIZING AN ADJUSTMENT FOR UNCOLLECTIBLE ACCOUNTS EXPENS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8" name="Picture 4" descr="D:\C21 PowerPoint\Multi_Journal\art for blue\Ch20\Ch20-01a.jpg"/>
          <p:cNvPicPr/>
          <p:nvPr/>
        </p:nvPicPr>
        <p:blipFill>
          <a:blip r:embed="rId1"/>
          <a:srcRect l="13213" t="0" r="0" b="62462"/>
          <a:stretch/>
        </p:blipFill>
        <p:spPr>
          <a:xfrm>
            <a:off x="457200" y="1477800"/>
            <a:ext cx="7315200" cy="3848400"/>
          </a:xfrm>
          <a:prstGeom prst="rect">
            <a:avLst/>
          </a:prstGeom>
          <a:ln w="0">
            <a:noFill/>
          </a:ln>
        </p:spPr>
      </p:pic>
      <p:sp>
        <p:nvSpPr>
          <p:cNvPr id="639" name="Oval 6"/>
          <p:cNvSpPr/>
          <p:nvPr/>
        </p:nvSpPr>
        <p:spPr>
          <a:xfrm>
            <a:off x="7620120" y="201132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5181480" y="24685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514440" y="623880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adjusting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514440" y="5500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nter and label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514440" y="58658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and label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17"/>
          <p:cNvGrpSpPr/>
          <p:nvPr/>
        </p:nvGrpSpPr>
        <p:grpSpPr>
          <a:xfrm>
            <a:off x="5891040" y="2392200"/>
            <a:ext cx="1617840" cy="2590920"/>
            <a:chOff x="5891040" y="2392200"/>
            <a:chExt cx="1617840" cy="2590920"/>
          </a:xfrm>
        </p:grpSpPr>
        <p:sp>
          <p:nvSpPr>
            <p:cNvPr id="645" name="Line 15"/>
            <p:cNvSpPr/>
            <p:nvPr/>
          </p:nvSpPr>
          <p:spPr>
            <a:xfrm>
              <a:off x="6172200" y="2849400"/>
              <a:ext cx="0" cy="1905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>
              <a:off x="7238880" y="2392200"/>
              <a:ext cx="0" cy="2590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7"/>
            <p:cNvSpPr/>
            <p:nvPr/>
          </p:nvSpPr>
          <p:spPr>
            <a:xfrm>
              <a:off x="5891040" y="30780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8"/>
            <p:cNvSpPr/>
            <p:nvPr/>
          </p:nvSpPr>
          <p:spPr>
            <a:xfrm>
              <a:off x="6975360" y="3078000"/>
              <a:ext cx="53352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Text Box 18"/>
          <p:cNvSpPr/>
          <p:nvPr/>
        </p:nvSpPr>
        <p:spPr>
          <a:xfrm>
            <a:off x="7344360" y="6506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0-1, page 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8:11:58Z</dcterms:created>
  <dc:creator>Mary Colleen McLaughlin</dc:creator>
  <dc:description/>
  <dc:language>en-US</dc:language>
  <cp:lastModifiedBy>David Combs</cp:lastModifiedBy>
  <dcterms:modified xsi:type="dcterms:W3CDTF">2011-10-02T21:37:32Z</dcterms:modified>
  <cp:revision>62</cp:revision>
  <dc:subject/>
  <dc:title>ADJUSTING ENTRY FOR SUPPLIES</dc:title>
</cp:coreProperties>
</file>